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DA4F-381F-42D4-8BF3-F64A86DE09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994A-B0D1-4B98-B90B-4E42018398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5D4B-CBD3-4657-B476-9C66487CEA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027C-3449-4DD7-A008-CC0816E646E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AED1-42AA-471F-948D-EB2E1F2C47E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E82A-0E55-4BC2-A06B-5367E314984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A4C8-B3F0-4771-A5D7-C194C464AA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3BC4-6B51-4524-81B4-DFAB58EE085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EE3F-7B5E-4DB3-BA50-C67FA630A62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A37A-87A5-4B1E-B686-91C9AC71829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E0FE-E574-4F6A-A214-04F50473214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B0F0-2CD1-49F0-9343-5C77600278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9E87-AE11-4835-8181-081F0B5EE80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4F5E9A-EC0D-41F0-9204-1B33786D3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84959-1AAD-4D0E-9D40-7209E1CB5D9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F9A71-E891-4B40-92E5-DCC2A2FB16A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DB1BC-0F59-485C-9FD6-7F5C5607577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5B532-9380-4CFF-A4D8-106285B8DD7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7EC99-F9F5-4C5D-B452-C27B8348E2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513DF-13A0-424F-BCF1-D11CA18FAC7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23F84-B1EC-4B5B-A62A-09B21D71578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A1DC2-4FA7-4135-ACE7-E3A9EBCDAD8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02655-B21C-459B-A7A8-9D70DC1F51C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F9BD2-BD7D-410F-A16A-F8E12B632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ABB06D-96B0-424C-8923-7DB5369608D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7BC9C-DDBA-4EE5-ACCF-F41288B0E49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FC575-03E2-453D-938C-A4D1F1E8265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04BF8-63E9-4F64-AF2F-6C2A9ECBD1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65CB9-3471-46B4-85B6-0B29B22B0AD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6542C-503D-4E02-ACE1-3A42D404673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34BCD-3B8D-46DA-9E05-CD0995DDA30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E5641-5369-423D-9BF2-217AE753880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9945F-69FF-4284-B2D1-BDA69984FE6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DBF7D-3A89-4418-9FAB-514D0DD87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EA98-AA3A-40DB-89A2-93C2930854C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19BBF-8067-4536-9A6F-5604EF315F2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E1450-459F-4831-9D4E-C47F2661AAF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5D21D-2DF2-41E0-A9E6-642CB766A7D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F2BF-15F9-4B71-B8E1-30985856D62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00CD-BD06-4CC3-AC37-9F4C1D68230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044A7-05EB-4BF5-BF48-D3BFD26B507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BC86-B562-423E-9683-46D9A613300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906D-8670-44A3-932B-97AC4A95396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BD1C-8E0B-434C-AF26-97E4EDA21D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C70D-6AB3-4375-82AA-DAD62CC6CA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8FE1-9275-4C65-A38B-B6DEDB0B493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8357-6BC2-4CAF-9871-9334536FC31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5885-ACD2-46CD-B535-FC9868A0CAA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9B44A-76F2-4C4A-B38E-D95E3870E15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40548-BCB2-441F-AE9F-03E7BE8CF85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DE27-9BFA-4B7C-A620-0F25741828E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20E4E-3CAE-4346-9FA3-EBD16C23305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FE1AC-3BA2-41B3-BD2D-2F1AB71B0CA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D67D5-DD7B-43F8-A074-A8CE10049FD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B61EF1-5E9E-4260-B219-19945A98762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ABB52C-0FBD-42FF-A6C4-CBAEA6666B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2571-841B-46A9-A848-1F58562063C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623AAD-431D-42FE-B1B6-E8DA0B19268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67434-7332-4D19-8450-84EC902AF4C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F396AB-4083-4AEB-BAAD-98CD4F6D826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05F49-2518-4DEA-8518-BB09297A389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62C6F1-51BF-43D5-8E4D-B42B3FD1128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60BC1-609E-4765-A18D-1A8D7728CB4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3E997C-3A3E-4496-9759-4FBFB0F5D15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EA2F3-7775-4F4B-8CE2-FB9A556EFA1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7897D-34D9-446C-A600-44D0DDE0BBD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06367-B713-4551-A379-964A53D6C4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5088-8F06-479E-80D1-0552CA06B0A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2602C-7282-413F-8643-FAF80E04D1D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65C34-3D44-48A4-AA03-CDDC39B18A4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A0539-0E1E-414C-8E36-6D0DC83FC27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A2465-2F96-459A-97BF-355DABDAFDD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7E064-02A1-436F-8CE1-D87B4368D1C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331E0-9040-4469-BB6F-A08A159D185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5D1BA-ED3B-4285-B76C-0AAF081A8F9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8CA37-1B26-4EF6-A9B1-09A6355CBA6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658A7-E011-412E-9CF7-F826CA9E8A0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7072E-1BFF-46FF-A346-794CAEAEB0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1A84-7BF7-4569-97F7-097103296E9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BA59-280C-4403-9680-BEF3BE911EC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950D-8197-46E9-A461-8DB07A8F5D2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4F49-3DE5-4EA4-8080-5DD1D2B72BC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46B6-269C-442C-93A2-74270386A8C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1AA24-A8D5-495A-AD61-41808C88CFD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FD8C-6931-4376-A9F7-95C91E973A5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A32D-CBCD-40B5-8FEA-C47A63B603E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2B15A-976C-4BB3-AA0C-FB40768062E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EE0B-546D-48C4-AD2B-4AE06347C43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B267-E373-4470-A25C-E78F5273A8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3D4A-1BE0-4EBF-952D-87D3EB289F4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DE629-B060-4F81-8A49-3865D0BCED2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2BE88F-5FBD-4D76-B47C-C67F951304E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5C8B3C-B550-4478-8B1E-71C17AC170C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B34031-6BE0-4C5D-A7B2-3990FF1E73D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1270A-6640-430A-87D9-C1D7227C2DE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33D808-36E9-4296-83FF-14F1E619E7C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BEAEFF-9BB6-4DE8-A477-037C2DB682A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9922B-20F6-47A9-B2D0-02EE0EAA9EF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ACAA00-12BC-44B1-BA60-9293AF2C859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2CD774-C795-4C65-AFED-03FBFB2767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0C9B-D290-4230-A6AB-1DEBAA83CE3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C948DF-9994-4CED-87DA-B2A074996F7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65513E-6925-4247-88DE-E26544827C0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3F696B-3894-4741-AF9F-C66C23AEC67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F8539-DF01-4FE2-BEC7-0A6BEBB7677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898C2-6F8D-44BD-9929-D6C37AEA169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490CD-24F0-4A6E-8D22-A44C297179F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013F5-7C3E-496A-8506-2D090CFF178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6A62D-C857-4E59-A24C-24A15F6D917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9E295-AB5C-4EF3-BBC1-2D135613B9B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74BB6-6361-4DE7-93DB-21E3FD3B89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FA57-A8B3-4645-89A4-4D729EE6EEC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8B377-3C09-4FBD-BDEC-6F6DA112EE7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D0C8F-5190-42C8-BB6C-61DBBE1527F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989F4-F8FA-4AD1-BB27-6B9EF38F658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BF7A9-B75D-418F-B4B4-9C5AA5EE4FF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B4C11-C13D-4414-B173-EB7F86BE30D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E4F94-E925-466D-B424-6872D361AC7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83408-EFAA-4A75-B3A5-1A9FB077AC6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E9A65-525E-493C-A595-14112DD7519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2E0F9-1614-4F44-A31D-FC6AFEF7753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C2807-BA92-4954-88D4-C5DEF68119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C14F-B0DC-46EC-8905-000C378A809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869C0-77F9-48C3-8129-A9B52583130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2B53B-525B-464A-92C2-FA34B89E1E2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82E2-9719-4BC9-88F4-952840464C3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8E8A0-EC8D-4581-A638-D6342789946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644BE-6F09-4BBA-8455-466CDA0863D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11B3-AF67-4D4D-B9EF-AFCBEA9ABA5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3DCA1-B838-474F-ABA6-EC2066BE895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BEB73D-C20B-40DD-85EC-0FDED6D2017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99706F-8B0E-4A6C-A118-DF3F6C320E3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20267D-C6D5-4624-9F2C-7B0D147D2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22C7-618E-4879-A0A9-457DC494E77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457B7A-2497-457F-8892-91123B61167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DADD9C-B0DE-4CC2-A6C4-7F699647EB4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B2C8E8-8F16-472F-9414-045D5A83A10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2A6B6-2A98-4FF9-989F-9C4419488D7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190D95-6DDA-43EB-8248-536C830EB9F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9F405D-4C53-410D-AF87-81A5B500CA8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FC79FB-C1F5-4113-8BAD-5D4B906FB5F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4C4381-0320-48E6-B45E-7CAA37CA202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11941D-E0F7-4C07-BA92-D8D6C46934F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20264-0951-454E-A19A-259B736ED0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BBB4-0E8A-400B-97CB-91E1ADBEB87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8C0D9-E48B-4016-8D8C-2793AF574EE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14467-7C1E-4731-B45B-61C94B5E0DF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F87F3-81C7-4874-AF87-A1BBD84FFA2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9CD99-F8D1-4C0F-9DFC-0D75361EB7C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0D88F-A06F-4D2D-B845-697C21362ED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60DC2-7A8A-4F20-AA1F-15EC4923D73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9A308-1CBA-4007-BD12-3864A9E7E84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206AF-615A-4BDF-B18E-C8AC7E729B4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855D8-8E5D-4AEC-92E7-2E4C85E4716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B4128-4EAA-44E7-82DF-7DFBAE3173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F46F-E3EB-456E-B84E-B8038DA95CE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D2FC5-92B9-45EA-9AF1-35D0105750F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3A069-1806-4292-8AE6-6E4B6FE3877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6639A-221A-4EB6-B3B2-84A4653B01A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92209-C66B-484E-8EA8-EA3B1205F1D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2F866-6B38-4B8E-AC58-D486256A864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E2190-7A54-4B46-AF9F-AD2F6C9FB66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DC798-5272-4485-97D5-D40702C05C8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B492B-3D6E-407B-8F7E-77B78ED6973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F928-950F-4E59-9E1D-48FFB1FC1DC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11350-CCF5-496F-A1FF-3BAA5AC00D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F1551-D967-4A2C-B7EE-7F70528B738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E7CB7-4FDB-4293-B8BE-3F63B35B8F9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570C2-E28D-406A-B454-A37533A5007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4B9E45-2BAB-4A40-8B65-E413698ACB4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B39241-DF74-4596-82CA-00CB8EF1A73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CBBC34-6939-4C71-AB76-50C631CB841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3726FE-1AE2-4F7F-90E4-A632731C90B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46BE16-6E08-4268-B90D-F2C243EC70C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51CE39-9741-4107-9689-9CC49741274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D2A09D-4AEA-4973-BF80-4F32B3FAAE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51F19E-F622-4D9F-9670-D6622B56522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DAF16F-1758-4618-81E0-EC283439022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4046A9-7BFE-48D2-910B-D3670E88781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BA3CE9-3E9F-42FC-BBB3-57438F0954D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903DF8-9F6C-4B83-B3B3-012D1907479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78945-56A4-409B-B48D-07805720205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7F56C-9AF7-41B7-B9F4-0A068233536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CF099-9CDC-4EEE-8F6C-7DB0BBBAB4C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396F4-76DA-497A-A347-A7212452B9E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248F14-CAF6-4DFC-9A08-EC6F3584D3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0CDCD9-77CB-4F8F-BE61-0C71C477B0A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7E1D7-59C5-4568-8B79-85D05A0E9F7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D98DE-2AB3-43FB-873A-0156968FBEB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14375-64C7-42E1-B3A6-79D5ADF7C13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19825-03C0-4716-8CC5-4814288B3DB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42B8C-7DDC-4235-89C3-DFDFAF379F8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E250E5-C065-41CF-9462-5D885EFBE89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CAD53-05D3-486A-AC64-77EFB1CA11A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C2FC5-504F-46BC-BC10-EC630E6B072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A24DB-D059-46BF-8BC4-BDDE9D7DB0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89015-EFC8-40C4-A70A-887383BE443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C6E3D-A31B-4AD9-8DFF-2D24CBAD9DD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0337-07D3-48F9-92A0-E545C4A7ABC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F8E9C-910D-4907-A3C9-27D874F9311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3593B-1CBF-4543-928D-55A1860CB4D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805A6-D314-474E-8B32-491919FB484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0071E-601A-496C-B21D-5BC81071854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14C6C-2AED-44FE-9AD7-C51447FF554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8477A-1090-477C-99A4-2749A1B124F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C29C92-2CE8-4E3D-B405-3C4E29D7E0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69285A-312C-470A-B518-A13AA342016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0BE6F8-6EA6-4708-99AF-C3963DF76FA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2961C8-021F-4B2B-9704-11548DAF246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D15488-5D2F-4B51-B907-32B712CC258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3733A5-9CF1-4543-814B-114A3CA9D9F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751737-BCAD-4061-967B-2E6DB5550AE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360331-C68F-4B1C-8AB1-FCA8A69B36E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801FD-BFF7-4B03-9351-BC22FA503A0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8FE51A-32C8-4331-94F3-BF9AB0E0AD6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35D3E9-C6E4-4788-98DC-82FEDFCEB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66E8AE-D190-4DEC-8750-7E9F14D48FF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F49F3F-1C35-4216-989C-126FBD5EF7B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B29FDE-BD36-4F96-8751-ABC99D1DB30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9611F9-65AE-47D9-89CA-DC3C4528600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976D4D-F607-4E38-B41D-DF2D5A87C22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369CC-1477-4B6B-9581-68A8FCE4D5B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A05843-11FC-4B56-9606-1E019FE0198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91B1C1-4557-4B7E-B3FE-09861597B26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BD3B47-EF52-4E2C-AD42-8412B0BAD42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509A9A-65C7-4854-B80F-32E4644AA5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6D1CBD-926B-45AD-9F91-3B08CE5C1A1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A1ADEF-C3FD-4B6E-9512-333193F8BA8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8AA724-3585-4F1D-96C1-19BB419C97C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FDD5A-B65A-4F0C-9B28-87BD55AA667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5E5F2-0383-428E-96FB-9533E2DDAFF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7DE7C-4EEF-420C-93E0-22F61AE4B43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6A246-7576-4EC0-9BDD-2C6D700DD21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D005C-D5AC-405C-9C1F-5D184049C58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39580-8A26-484E-8E5D-096F991000A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17F21-3AB6-47C9-B80C-AA2B33972D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D50C2-FCA4-49A2-86F9-4565DF4EB19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A7F9B-AC78-41F1-AF8F-01C0148C662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F8206-B571-4ED1-8AA1-6A648400DD9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EAAB2-C1BF-4580-94FA-1F03B9C4B1E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F2B8E-459E-4254-BE73-48BEE0D77F4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B4DE-E41B-4370-B419-C965054F15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0A7D-679B-4FAB-9132-ABAF89F158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5A59-80BA-48A1-B5EC-C81B1A720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8066-26E8-4A70-B079-DA17D76D34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1DC8-183A-4A4D-943A-EFDEAB486F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9554-CA3F-4754-86B2-35025ACDE3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7554-6FE2-48BA-94CD-665B04E6CE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96EC-04E8-454C-8FBC-3B5C8C89FD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E087-FF27-420F-BDB7-5B38DFDD6C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C471-5744-4ED8-8915-E7AB3C34AE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397F-8D72-46D3-A694-A8C80744C5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1B86-4486-42C8-A667-271C7FB102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2FA-6C0B-47D5-8ABF-86FC900A024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724-3D95-4EB5-B703-97024E5C81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D6A-E972-474E-8F33-CCA5D5EF5D8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9CC-C797-4172-9615-9D0C8E3BCB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6BE-0C57-4661-BC84-C61B4FBBDF3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A04-76EC-4253-9216-588E781C98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FAC-9D4B-44CA-8678-5682635AFC3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145-A6FF-43A5-8DD0-1FEA4629F0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F8A-A4C3-41EF-90A1-08EAD7364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800-2AAE-43EB-B9DB-31D3E14CB9D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C07-BE45-48DE-8CD4-1488A891B57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D2D-511D-40E9-9035-6E43E6209C6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FCBFD-4A47-419F-A286-CD19FE1EA89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96B51-0C3E-4AC8-9E60-2AF4414C2D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DD77B-84BE-436F-A735-995835A140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C1702-1305-4BB0-9C21-54E697003CB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CADC3-D580-4470-940A-E097F8F5E3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5FCF2-A510-41CC-97E5-91BC045015E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DD2B5-FBB1-4FB6-9B93-E41710C0F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8C0AB-D8F8-406A-8E6A-46E9BB31E3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6E66E-7619-4B75-8CA8-83254D75223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2001F-A0C7-49A5-AA7F-1804E8AB41E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46C44-F421-4A3B-9DB0-84932C7E0DF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6BE07-FA1F-4B17-B050-DAB6D9A106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E44B5-43FA-4D40-BAC1-BA5642A4BEF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38AD9-6D79-4177-B6C3-316ACFB7113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4DC3D-3023-413D-927F-1F56EF6D123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3D5C8-8E34-4389-A9B7-A6B69513F87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0A538-16C2-4EBB-8CE7-C336F8990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995E6-84F7-44F6-9DDC-1B822DB58B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FE754-E94D-4D0F-B441-526D347B113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30F36-1415-4A16-8D0D-3327A6EB6D7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E1B19-A27F-48DB-A1B4-81DAF4760ED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25A86-B0C3-4AF3-B537-011A05182CE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FBF8A-EA91-4828-835B-21393E30DB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59719-100A-4CBB-993B-64608F2940A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5751-006D-401E-A310-9094F70CA38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9040-DB23-41E5-8579-D053CB7722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1296-91D4-48CB-8237-C743FB7EB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0DD3-17AA-4A19-8BF0-48247D2743C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8AB6-2550-419F-8A5C-2B33D07F154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7F66-3758-4A90-9F95-3FAFF9467FD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01CC-8BB1-4E24-9A5D-90FBCEF5D2F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3B48-CB78-486A-AD2E-69F71D7B081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C582-A9CB-4DE7-9BAD-AAAED3A248C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CA2C-9DD6-4805-9F18-1492C456895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29CA-4345-4951-B2DD-168B77FE0F4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B444-43F7-415B-B017-F9B02F45097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2F83-4CDF-4800-823A-DC38A29657E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AA3A-ADA0-4D26-BF02-62900B02C44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2CB2-1678-4CFA-86A9-1C69AF116C8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1427-4402-4474-86EC-B003CA8185D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5B03-63CE-4E3C-92B4-2299ED8E603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DC81-5580-4F7E-BF10-1B5D7DCCFE5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1E7E-8FE3-4564-BADA-6353910A38F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59C6-36F1-435E-8473-9743A659853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F35A-512F-4EBC-A739-C65D11D7CE3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F242-D27E-45F2-AB10-47FA8725AF3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6225-D733-4332-A4ED-6E798F72E84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D8B-6780-4376-8234-55185A279A4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2600-9744-4B9D-8D2B-C58C37DFD1A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F332-105A-4564-BDBC-2FCD2F3A248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E81B-BD5B-467C-93F2-A787CEFBE0B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ogotá D.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69228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6728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0" y="5445000"/>
            <a:ext cx="925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119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3"/>
          <p:cNvSpPr/>
          <p:nvPr/>
        </p:nvSpPr>
        <p:spPr>
          <a:xfrm>
            <a:off x="1728720" y="620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3826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5 CuadroTexto"/>
          <p:cNvSpPr/>
          <p:nvPr/>
        </p:nvSpPr>
        <p:spPr>
          <a:xfrm>
            <a:off x="545040" y="51832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1047600" y="1484280"/>
            <a:ext cx="71787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3"/>
          <p:cNvSpPr/>
          <p:nvPr/>
        </p:nvSpPr>
        <p:spPr>
          <a:xfrm>
            <a:off x="1182600" y="40464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31680" y="5396040"/>
            <a:ext cx="90043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5 CuadroTexto"/>
          <p:cNvSpPr/>
          <p:nvPr/>
        </p:nvSpPr>
        <p:spPr>
          <a:xfrm>
            <a:off x="761760" y="4986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539640" y="1374840"/>
            <a:ext cx="79120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1763640" y="620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690480" y="1628640"/>
            <a:ext cx="7620120" cy="3473640"/>
          </a:xfrm>
          <a:prstGeom prst="rect">
            <a:avLst/>
          </a:prstGeom>
          <a:ln w="0">
            <a:noFill/>
          </a:ln>
        </p:spPr>
      </p:pic>
      <p:sp>
        <p:nvSpPr>
          <p:cNvPr id="1307" name="Text Box 4"/>
          <p:cNvSpPr/>
          <p:nvPr/>
        </p:nvSpPr>
        <p:spPr>
          <a:xfrm>
            <a:off x="17640" y="5445000"/>
            <a:ext cx="9108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0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1133640" y="69228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4"/>
          <p:cNvSpPr/>
          <p:nvPr/>
        </p:nvSpPr>
        <p:spPr>
          <a:xfrm>
            <a:off x="392040" y="5516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5 CuadroTexto"/>
          <p:cNvSpPr/>
          <p:nvPr/>
        </p:nvSpPr>
        <p:spPr>
          <a:xfrm>
            <a:off x="54576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1 Imagen" descr=""/>
          <p:cNvPicPr/>
          <p:nvPr/>
        </p:nvPicPr>
        <p:blipFill>
          <a:blip r:embed="rId1"/>
          <a:stretch/>
        </p:blipFill>
        <p:spPr>
          <a:xfrm>
            <a:off x="1249200" y="1557360"/>
            <a:ext cx="66279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5 CuadroTexto"/>
          <p:cNvSpPr/>
          <p:nvPr/>
        </p:nvSpPr>
        <p:spPr>
          <a:xfrm>
            <a:off x="545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8" name="1 Imagen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5905440" cy="3502080"/>
          </a:xfrm>
          <a:prstGeom prst="rect">
            <a:avLst/>
          </a:prstGeom>
          <a:ln w="0">
            <a:noFill/>
          </a:ln>
        </p:spPr>
      </p:pic>
      <p:sp>
        <p:nvSpPr>
          <p:cNvPr id="1319" name="Text Box 3"/>
          <p:cNvSpPr/>
          <p:nvPr/>
        </p:nvSpPr>
        <p:spPr>
          <a:xfrm>
            <a:off x="1133640" y="76500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, áreas metropolitanas y Bogotá D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gosto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– octubre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Bogotá 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2 Imagen" descr=""/>
          <p:cNvPicPr/>
          <p:nvPr/>
        </p:nvPicPr>
        <p:blipFill>
          <a:blip r:embed="rId1"/>
          <a:stretch/>
        </p:blipFill>
        <p:spPr>
          <a:xfrm>
            <a:off x="1481040" y="1628640"/>
            <a:ext cx="590400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1 Imagen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6141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Picture 5" descr=""/>
          <p:cNvPicPr/>
          <p:nvPr/>
        </p:nvPicPr>
        <p:blipFill>
          <a:blip r:embed="rId1"/>
          <a:stretch/>
        </p:blipFill>
        <p:spPr>
          <a:xfrm>
            <a:off x="722160" y="1844640"/>
            <a:ext cx="73789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C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99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771640" y="3328920"/>
            <a:ext cx="6120000" cy="181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062160" y="333360"/>
            <a:ext cx="56851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76500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2057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1219320" y="1989000"/>
            <a:ext cx="709128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61760" y="5904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366920" y="1419120"/>
            <a:ext cx="64101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ogotá D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gosto – octu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368280" y="2492280"/>
            <a:ext cx="8653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–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rles Daniel Mayor Pachon</cp:lastModifiedBy>
  <cp:lastPrinted>2015-10-22T20:12:38Z</cp:lastPrinted>
  <dcterms:modified xsi:type="dcterms:W3CDTF">2015-12-10T13:41:21Z</dcterms:modified>
  <cp:revision>971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